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823-A21F-4E27-B143-DAB39882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AA3-62BB-4185-98C3-430ECA16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9E5-026F-4EDA-A1B1-B722D71C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8F9-349E-4EF0-882A-83B815E0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7091-1AEF-416D-B558-2360D58B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2109-3B0D-4333-9F7F-D09DAF6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D3B1-67A1-4E2D-AD25-A5B17EF6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2EB4-1393-447F-BACF-09D3DFB2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1B68-07C4-4B9D-9D79-30C6F925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F1BB-84C5-48D9-BF83-87A786B3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6C49-FE30-4072-B12F-2A254307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C5C-13E9-4175-BBD3-DC71A1C2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07CF-A71C-454F-B426-AA55B0F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70CE-DFD1-4551-970E-E5F942E5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8356-3611-42F1-B7AA-F13B5F68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5576-8C9A-4526-BFDF-9A30777F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5370-29C2-437D-B25A-CB67B86E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3AA-51A3-4EFA-838A-58F06962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04B-D914-41F1-9334-077B8264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A4E-9D30-410D-ADDC-B8F71969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734-B5A0-46DA-81D4-1D64BC34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DE8-4F3A-4D28-9138-D5CF492C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AB5-9BA5-4A38-9E51-6392744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597-5493-4C5C-A0B4-8B37DBBA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0503-16C1-401C-BF75-B2933D329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FF3F-1C3D-47C6-A47C-587592FCA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IEL HYP 10001.pdf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IEL HYP 20001.pd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IEL HYP 30001.pdf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IEL HYP 40001.pdf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EI HYP 1.pdf" TargetMode="External"/><Relationship Id="rId3" Type="http://schemas.openxmlformats.org/officeDocument/2006/relationships/hyperlink" Target="T MEI HYP 2.pdf" TargetMode="External"/><Relationship Id="rId4" Type="http://schemas.openxmlformats.org/officeDocument/2006/relationships/hyperlink" Target="T MEI HYP 3.pdf" TargetMode="External"/><Relationship Id="rId5" Type="http://schemas.openxmlformats.org/officeDocument/2006/relationships/hyperlink" Target="T MEI HYP 4.pdf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 La pouss&#233;e d&apos;archim&#232;de prof.doc" TargetMode="External"/><Relationship Id="rId3" Type="http://schemas.openxmlformats.org/officeDocument/2006/relationships/hyperlink" Target="4 Eval COR.do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1 investigation &#233;l&#232;ve.doc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émarche d’investig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T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 se déplacer dans un flui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ère difficulté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che des élèves trop glob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er un paramètre dans l’hypothè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r une expérience et une liste de maté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ail de groupe (2 à 4 élèves au choix des élèves) pend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min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ion pour affiner les propositions des élè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ième restitution : (15 minutes)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èse 1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c’est à cause de la pression de l’eau » : plus on s’enfonce dans l’eau, plus l’eau nous repous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ètre étudié : la pression de l’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 envisagé : divers récipients, eau, flacon rempli d’a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ième restitution : (15 minutes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èse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c’est grâce à la forme de la coque » :selon sa forme, un objet peut ou pas flo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ètre étudié : volume à masse cons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 envisagé : 2 récipients, eau, balance, pâte à mode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ième restitution : (15 minutes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èse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c’est à cause de l’air contenu dans le bateau » :si on met des brassards à un enfant, il flotte donc l’air fait flo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contradicto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ification de la proposition : « en fonction de sa masse volumique, un objet peut flotter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ètre étudié : masse volum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 envisagé : 2 flacons identiques, eau, récip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ième restitution : (15 minutes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èse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le liquide influe sur la flottabilité des objets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ètre étudié : masse volumique du liq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 envisagé : eau, huile, sel, pate à model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groupes de 4 élèves par hypothè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e à disposition de la pâte à modeler, d’une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ériel emprunté en cuis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4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les 10 minutes restan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uer les expériences prév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fléchir à un meilleur dispositif afin d’affiner les résul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voir des mesures à faire en salle de sciences (prochaine séance en grou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xième séa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 dédoubl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ant 25 minu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aux en groupe poursui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ure des paramè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daction d’un compte ren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25 dernières minu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de chaque expérience au table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u non de l’hypothè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1: « c’est à cause de la pression de l’eau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sse. Les élèves ne parviennent pas à montrer l’évolution de la p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 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ériel choisi inadap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connaissance des phénomènes de pression (suite du program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vaise piste 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2:« c’est grâce à la forme de la coque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ès: les élèves montrent bien l’influence de la forme de la co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ément manquant: mesure d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3: « en fonction de sa masse volumique, un objet peut flotter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é : les élèves remplissent plus ou moins les flacons et montrent une immersion partielle ou tot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ément manquant : la mesure de la masse volumique pour définir une limite à la flottabi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4: « le liquide influe sur la flottabilité des objets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é : la pâte à modeler coule quelque soit le liq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ément manquant : mesure de la poussée exercée par le liquide à l’aide d’un dynamomètre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la classe de 21 élève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1: La nature du liquide a une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ypothèse 2: La masse doit être bien répar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ypothèse 3: La forme de la coque a une inc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ypothèse 4: L’eau exerce une pouss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A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à 33 élè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que de précision dans les expé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ou peu de me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 activité du pr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ès mitig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à 21 élè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ériences plus approfon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 plus 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atte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000"/>
                            </p:stCondLst>
                            <p:childTnLst>
                              <p:par>
                                <p:cTn id="60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investissem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our le c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expériences ont été refaites par certains élè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éhension plus rap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des élèves très bo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pla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xe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 de 33 élèves (2 filières mixé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 de 21 élèves de Terminale M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visions avant séan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érience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r des matériaux de densités différentes (CDI) puis vérifier expérimenta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érience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r la forme de l’obj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érience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urer le volume d’eau déplac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715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: Pâte à modeler, éprouvettes,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 de 33 élè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ambu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ère séance en classe entière de l’ann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 de la cla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 de 17 élèves ELEEC con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 de 16 élèves MIC nouv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e classiq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de matériel à proxim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istot mis dans la confid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 de 33 élè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us de la sé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aux de grou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hypothèse de travail par grou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xpérience par groupe doit être réalis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ompte rendu individ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marrage de la séa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Distribution du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r par écrit une hypothè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flexion en binôme ou à 4 (liberté des élèv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min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itution du travail de recherche à l’oral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à 10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èses de trava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’est à cause du poids de l’eau sur la surface du bateau qui est rempli d’air donc il flotte 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prof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 : combien y a-t-il de paramètres dans cette proposition 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 : quelle expérience peut-on faire pour confirmer ou infirmer cette hypothèse 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 : amener les élèves à recentrer leur réflexion sur un seul paramètre afin de rendre l’expérience possib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èses de trava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a terre attire les objets vers le bas donc le bateau reste à la surface 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prof : A-t-on un seul paramètre 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utour de l’intérêt de cette pro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f : amener les élèves à écarter les propositions les plus éloignées de la situ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cée Sully</cp:lastModifiedBy>
  <dcterms:modified xsi:type="dcterms:W3CDTF">2011-09-28T15:46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