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78C-0C1F-415C-A199-1D25D3E1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099-D8C1-4196-8C92-B15D1FF0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3D1-9FA9-434E-A1CB-28D84E28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1B6-569B-491A-B765-1982C22C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AE9-F66C-470F-B54B-87D72A1F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D62-4268-40C3-8AC2-DBB7AA1E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B6F-B7FD-4E98-993C-4111ABB0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3BC-31CC-493A-A917-965D4633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DA9-9CF9-4DAE-8D04-1FA7A97F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C92-F4F0-47F3-A187-848813E5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9E4-A752-444B-AF83-DCDB2263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384-85B0-4ED2-9825-9078FD66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FB94-867A-49C7-B417-435CA08F0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9890" r="0" b="259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9890" r="0" b="259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29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Flotte ou cou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rcRect l="0" t="9890" r="0" b="2592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ravail en grou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pos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 écrit des expériences mettant en évidence le paramètre étudi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éalis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os propres expéri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édig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n compte-rendu (Schémas / observations / conclusion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épar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otre présentation or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21:15:54Z</dcterms:created>
  <dc:creator>Pauline</dc:creator>
  <dc:description/>
  <dc:language>en-US</dc:language>
  <cp:lastModifiedBy>Pauline</cp:lastModifiedBy>
  <dcterms:modified xsi:type="dcterms:W3CDTF">2013-04-03T20:22:46Z</dcterms:modified>
  <cp:revision>2</cp:revision>
  <dc:subject/>
  <dc:title>Diapositive 1</dc:title>
</cp:coreProperties>
</file>